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3D3-3293-4BA4-9E5A-CCE22EA5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EFD-1543-456E-AE74-3D504B82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D2D97-6993-406A-ABA4-97F17097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AC858-02DE-4AE4-91DD-B31B770D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DD8A8-9D52-41CB-8708-383820B6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26C71-A606-4023-81BB-96E5D1B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92E4E-F8AB-4595-BE3C-F63A6B2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DBE36-819E-44FE-8B22-43FCD8C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BD0B-2B04-4784-90A9-04BFCB9E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B313F-336C-4329-BCC8-A3F13FF8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09BA7-2D96-4E74-ADEE-5718FE25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8721E-CE55-423A-853D-570E46A7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C62-7696-4229-B6C6-2E706C55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DE2A1-4F72-4F02-9F53-7B1C69A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743E1-BB91-4C11-8AC6-F26A0CF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05E87-A5B2-48BA-BE8B-DC7194A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9C9CB-7318-40BE-A84C-2B1F80A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2E1B9-25EA-452F-BB78-258767C1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1D3F2-C263-493F-BAFD-CD03C00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7BA84-D9A5-48BF-B167-9A062A95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8D243-9996-4EAD-B70A-732E2EA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CD0FC-E7EC-4358-B09F-B103EE4E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5A615-DC04-48B4-9259-38B35470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76A-F350-479A-BF81-8CFF7B62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3666-94A9-4BB0-8BBD-18C5A1F9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3EDEC-9716-4DDB-89AA-7F9400E9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EDE84-010D-4820-8229-14115EB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608A2-3C2A-4CC0-BEDC-3BA191CF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DD213-344B-4514-9B45-989E7D6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684B0-1391-4F78-8F7B-C762334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3B29E-7885-42C3-92B6-E364616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B84BA-CBA3-4CE3-8698-BC17D596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E4C26-BD5F-4788-9737-0C55E386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9F40C-E199-4C48-A6D9-1FCAE813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8B1B-BEDF-4F60-B9BE-EC693DB0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A482-042B-4F4A-B05F-B6429DD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64CE8-A30A-4030-80F6-1ACBD436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B4169-D1EA-4AB5-AA3D-0B4AC55A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D99FA-0287-4A23-993C-8AAC333F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21F32-4E6D-4957-BDD3-3FF13C31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5803F-2A8A-4F99-9A11-F1386154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D90B7-5C63-4537-87CC-829F4281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24CD2-8E5D-437D-9ADB-7FE0F65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5FCCC-8039-4B10-8DE7-D6E20E7B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47B8E-8DA6-4A2E-A644-53FB41D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B463-14D3-44C0-A9F7-438CB066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88979-FC3E-4938-B5D2-7705922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88511-27A3-4EB5-A126-68A17EB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11617-13FC-4900-8AA8-3DF8DF83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784F2-578A-4D52-805C-BA551E83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A3CF8-0E75-48AF-8A46-68D07C81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98C0D-E070-4ECE-8BA4-4DA74816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3F800-80AB-4646-AC88-751C146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DA225-4E8F-4442-AF12-32C641BB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2FA0E-621F-4766-A7E9-5B07B924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E7359-7601-44F4-A943-C324AB8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3745-2561-4BF4-A5A2-FAC5C41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9C75C-1198-49A9-A64A-A8905C9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75046-B61C-4666-B777-9912E78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9A6C2-206C-4431-B7C5-EFB0F16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C0C42-A349-4488-87DF-23C14C6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FE9AE-A952-4344-84D4-FB522B01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942F8-8CB8-478B-86B2-00EFF99C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027D5-FF09-4C7C-A1BB-0EC883C4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0D2AD-B552-4B9A-B163-5E3DA885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B1AB3-CEDD-4BD7-8440-24E977DF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E1C3F-3EB4-44CA-869D-C22C454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ECB7-E51F-46DB-9B61-683E3A07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A1BC4-31BD-4847-9835-78CE25C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B0160-CEC1-4AEF-84A1-A77B78E2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02130-788F-4CDC-85DE-CF64107F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78B54-4B29-4C2E-986A-13139B8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ED8D8-6689-436C-ADDC-9AE8B127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05969-C099-4022-A856-69AE9DA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685E8-4ACC-464F-800E-C67D3396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D9BED-D489-4F4F-A13E-11FFB5A5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881AD-A5B5-466C-AD68-E80789B3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6CE4C-40E2-4795-B466-5B80FFB9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4260-5B5D-4780-96AB-A12AED3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44E25-938C-44E9-8559-418735AD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342D6-8CC1-4417-A649-5976ACA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8F987-F851-44A9-A854-14E90EF0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705D3-3D39-4145-8857-B5550CB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DE4FD-16A3-4D83-B87E-C75C961C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9E2E2-4D81-420C-B406-3CA01637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0E2C6-FB08-414A-B175-E2BA859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6D461-5D41-4B46-9725-E982BC1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4E650-D5F4-4899-B17F-7CF7162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EB3DC-9B6A-4DE2-BCC5-F7A2177A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9EAA-F551-447B-88AA-8F740E9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EFD89-69D8-4D1C-B767-70ADB892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E4F4B-4725-4DB2-8C3D-5BCD979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8A100-02E7-48C0-8E6B-3A81E757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707B0-3755-4578-ADB2-564E4C5D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DE3AF-DA92-414D-BBA5-E264414B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6EDA3-976A-4F17-BFEF-8A861217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5EA2E-A58E-46D8-AF08-442DDCC4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98BD4-06F1-4DE2-B469-251392E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23DBA-80C3-4C2C-9F7A-676E1AF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81A75-ED91-420F-B223-1215CCF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3390-0DB0-4035-9240-A06BD203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3F603-C3DC-44BF-9BDE-DC5F18F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6EF65-0076-4112-8C9F-1DAD252F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B671D-1A0A-42D4-9111-E8441AE4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34BFA-6384-4838-9FE0-4A5755CF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9C0E0-DAC2-4F2E-B195-DCCDA7B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C80C1-9B86-4706-A7BA-3D115F9B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BCB10-F189-4065-8DB8-E2A753F5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1A93C-C745-487D-B633-4EFC8A9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CCEBA-7223-4A4D-A240-ACF04C34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66272-5FB8-4784-8EC0-A223302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177-03B0-4F09-9FE9-6BD614A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6C45-3AF7-4E22-925E-5C4F942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8500E-75B5-46CA-9383-D1D0F506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C45B9-30BE-4806-8DA7-FC1DBFDB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F11F4-B7D8-40F9-8CB3-18A39593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09BB0-C384-4A18-BFA9-A31DADC4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E8752-8F86-4F93-9456-BCE82E19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CB1E3-EA22-4F11-80BD-F9FF44C1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925F6-E726-4DDD-A2D0-802C0B4A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20CFD-5190-492C-B618-48069D62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7F3F3-ABBC-4579-84AA-5E30A583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FBFB0-1947-4A2B-976C-1AE7442B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C47F-AF5C-4670-A7AD-55575B7B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655D9-12AB-4E12-B4D9-F9B0DD8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28513-C7EB-4C73-A196-F4D77A9E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FAD0B-B1D1-4961-99C4-2B7E784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42C1A-0AE5-475F-B26D-097E2A1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368B4-9214-4DC3-BB5C-8D653CB6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5D24F-2DA4-420D-93C5-5554244A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82FA1-B2F9-4CAA-B701-EEE6CC73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BCAE1-A2E8-475B-B811-CA6DAB6E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F3917-A7FB-46A2-88F3-FB4E79AE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74BEE-19D4-4551-A083-15426500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AC5-E780-4E8B-9D35-C36A5326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5ABA6-E888-4DB6-B520-3638430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387A2-08BD-44E9-9965-BB43F783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35A52-4997-4F1D-B4BF-D7B8877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0699B-A5A3-47FF-BC9C-BD4F8091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D8ED33-C551-4C30-B0B6-2EE7C99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8A009-6967-4E12-87C9-DD377BE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62381-45C4-4870-A41F-BFA5D878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FBF7B-E1BA-4B4D-989E-E114FA0D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84190-1851-47AB-AD29-D0F78AD2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2DDC2-1185-40AC-A769-3291849D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3D72-4ED9-48DA-999B-9316501E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30D63-516C-4C16-A698-AE6B306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BF74C-CE26-40C0-ACE0-284C202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A9155-02DE-40AA-9C75-70CF735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344EA-29B9-48A0-AE52-273FA63D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21B83D-EA8A-4A17-BA5A-2D3BAB5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5A695-1B3E-49A1-AFB8-1AE0661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C27DD-4638-4843-943B-F17DBAB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A76F6-1B21-4DF4-9DCF-0206AE2D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D9580-EAEA-4A91-8831-48437F2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33191-7C8E-4B29-B448-11F7FDEB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97D3-5547-4645-9CF8-9A122CC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D8958-3A3C-4678-9749-330207FA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51E63-7A0E-4324-93F3-88E49625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40DD1-2800-400F-B225-40C52F6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CC597-1626-4FBF-ACDB-58D06D5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0ECE9-5057-4745-BE21-BA0161E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75C71-AAB1-4CEE-8940-2F842113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11ADB-6B9D-45C8-9237-CD3F40E7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F1BAD-8A6F-496F-9274-7A46DBB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7B913-D031-4023-9B27-DA1FA11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697CA-FB7D-4A58-8672-4D4E6E8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7A48-448D-43C8-A80B-B1186B12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EAFB89-3E9D-439C-95B6-63ED0E95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63B30-A967-4196-AA82-A7301F6D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62DE8-7F79-4996-B16A-2CEA0C2D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B920C-58C8-4581-B969-7178BCF2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EECE8-376C-4578-976A-3F1C0B88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F97D19-CD05-458B-BC5F-7363EDA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D0F53-8415-407F-8A2A-EC6DE4CC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CBF78D-DE91-4141-A58C-265D752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7BF00C-0CE2-4ED1-89E8-225AD1BC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16090-AFAE-4E12-901B-21442BC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5EFE-FF58-4C6E-AE54-B89DF26D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672F55-548E-4217-8A19-0B340DD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45B8DE-30F0-434E-B77D-77331A7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76952E-11E5-4F56-B1D3-C1A4ED5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AB806-01AA-468F-997E-F99CD159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263097-15FB-4BAA-AB78-0AFCBD3E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9F752-B30B-43E4-8C0C-048DDC25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8C1A71-CED5-4F96-A2F7-8CD37EF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E4FF87-34C7-4F32-BBB3-0B7906CF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A2F0E8-F98D-4C54-AF47-9A5BA5C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84C12C-9388-491E-B1CC-086279BB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96376-C840-430A-9780-914A0526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A9AA5-49B8-4C29-9EF7-0B83E56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FD55F4-0B4D-4CEA-B08B-14B03C20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56328-4D2D-4FF3-BC2F-057D6AA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9C75B3-659E-415E-BD7E-C8EF913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7331D-5876-4E41-9E5A-A2F4F003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B8E506-268A-43DB-8756-07D22399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DD26A9-2241-4258-ACE5-BB2594DA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E101-7DCE-4647-B207-6FDE505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82EA-2AC2-4D8F-BDA8-02D69DFC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4EC-73FC-4E01-8644-9F0A084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4014-E043-40BC-AEE2-206860EC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85AB-0133-4B06-A25F-682B251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AAEB-A8EC-4227-86B6-2AA353C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2DF0-2AFB-4869-8BBD-98D8EC4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B7C8-4E70-4759-9957-E9E4100A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F448-415B-483C-BC20-6A01D0B5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C91E-F74C-40BA-822F-2CF4C48A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9EB8-57FD-4A2F-9E47-750A8B7A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AC622-35DE-4FB1-B72E-CF255799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54C1-E639-4F6C-BA0B-8F9EBB05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62-32D9-4CFB-B77D-055B93EB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0622-FC9A-4CD4-B6FA-0DE1A8CD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FAB2-0A60-43C4-AA00-60F2024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CB54-61E7-4E21-8DF9-EF7F59AC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CEB4-636A-4324-914D-D48E3D5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A4A5-DA06-4E8C-95C5-D8971468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CD8D-84AC-4748-9E8B-66A5382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A502-3176-44D2-94D1-AF729FA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A2E6-EE5A-4D9B-B72B-CBAB1F0E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79B2-A836-460C-8840-54F81D6D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DCDC-AE6F-4BE6-97C5-4C5A07CF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154-894A-48D5-BB7D-CA34F233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BBB6-BF5C-4F3B-B024-C9E7DB7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A2A1E-B669-4247-9AF0-5F4CB5C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2C96-2A04-4733-B320-AC115C04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E366-5D72-4376-BAFA-1BCDD1D8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C456-C3B8-4C93-A72C-72FC5F40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BF2B-18B4-4D71-9A71-4D11E59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3D6F-61EE-46C5-A5B5-109A928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97E3-F397-4B4F-9D36-BE425A9C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B8D1-00DF-498B-8D2C-05029EE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BAF8-04A6-440E-8116-880A070A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08A-769D-4A74-9AD5-1B619BB8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E227B-2D57-441C-962B-515D7E3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ED24-DA75-4FA5-901E-1B4D9AE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3B1E-6EB0-4AA8-9269-0DE032C1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CDDD-2BD8-4135-A3DD-F20FCAB5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C63A-A0C6-4A5C-9CED-994D515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33A4-99E9-4B71-A0AC-53250C2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4EB63-1EBA-4CA3-A9B5-88D20E35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4B9A-5704-4EA4-8467-CBC0C34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30BE8-B384-410A-AE43-D52F1BD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DF3EF-00D5-41B4-B4E7-0BE251E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BAA-56CD-4F5B-BE4E-D0AC1B9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7608-A75E-4E92-AE7E-6C2273D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E4A32-4540-4765-9BA5-E3EC5C50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E1C3-3AF2-4377-BE17-2C1534F3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A931C-BDC7-451A-830D-55B5461B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CC3F-012B-47F2-9726-DBDD4E3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3311-C5F1-4006-BE1F-BC8A284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1F48-69FA-4EC7-B00F-8E4A6EE2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A1E4A-34C8-491C-815A-76D04EAB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3150-AD5A-479C-A5C3-EA3CCA0F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D4028-8BBD-450D-B989-C6CBDB6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228-3C36-4078-ADAC-BAA8DDF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86F7-ABE2-4273-BACE-5D17009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0CE62-C8F8-4FBD-9AF6-D14678C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89F21-4B04-46EF-B257-6F92E74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0DBE-36BF-46A5-8A2A-699D600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940C9-8EF6-4E21-A295-5398D194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9700-2DA9-43EF-AF12-BACAA974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727A8-1C44-4E5E-BF67-5087E34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A413-0E7E-47B1-91E2-D63D7F6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1DD01-9015-4C25-8F84-EC8F626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91F59-09A1-4F7C-93F8-A0814DD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04C-D590-432E-BFE0-55FCD4E2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CE59-4D60-47B1-9FDE-C8CCF52D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D55A-0E04-4503-9E04-E3A004E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6943-45B6-4A24-A655-96FDF15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4661E-C2AE-4683-978C-EB7F176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30796-252E-4858-8D89-05D990C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2530A-958B-46B9-9BFD-842F7CAF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0C2F-D2C7-4EBB-A60E-62647502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FC817-A713-4C25-9D60-577514E5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FAF0B-A7B9-482A-B9F5-2424A3C5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6F5A4-29D0-4D59-A3AF-09706999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12F6-B7AB-42A0-96BD-3BBDBC8AC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4F0-9503-4A31-ABB7-B7563C237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4709-468D-4769-8347-66CFFF1967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94FC-0DEF-4CDB-B387-5A4FCE0E4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546F-EBED-44E3-A406-75306378FD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245-50D1-4342-B479-F3E07FE09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2462-9DB9-444A-B17A-56F24E37E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2F79-3C74-4FB0-98AC-46193B630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7276-C42E-47F3-A23A-6E20C575C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3AE-44FC-4FA0-8A59-0EAD64CE97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47D4-D28E-4A9F-807F-0846BFB15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ECB-CC11-4CC3-8A08-0895398A6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DB2-0809-4D83-8394-9AAE6A276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65A-3228-4D3C-8CA2-0621C304C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9174-E1F2-4AB9-A886-192EB9039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5E9-93D1-47B6-84E5-D0671BADD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FFF-317E-4CD6-9D99-2D7EB57ED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3BE-A2DC-4AB6-A080-7A1EB6A16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5605-B17B-4816-88CC-029C98FA6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5EA9-3D34-49E0-B3D1-865D8C3F0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7B3-89EC-4796-A577-AA0A5FF93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B91-CF67-4039-8A7C-97B1414A25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EE82-8CF8-4885-B7DB-0EDDDE1A4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7E09-E6A5-43C1-8BA7-FBF80F291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263-9BB5-46A9-8D81-767A3A3AF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9F3-C438-441D-8F1B-43B2F7E7A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C105-5C9E-4A26-B012-0F771D736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EE3B-36EA-41A8-B280-1745D7933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37C-7C0C-401C-8CAB-BCAAFB1D39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5F4-8493-43E5-9368-18F091B75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8210-B76C-49D0-AE59-D5B383E96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4D8-9BCC-4E79-9F20-874266D8B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99C6-DEA9-4BDD-BCE6-DFEDEA3C97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C5BF-E854-4A05-B96C-CC4A8592D1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25D-4DCB-474E-8E1C-016F0622C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CE24-B60D-4BA0-9C3E-2A4801916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738-DF9A-43A0-A39B-DFE9C631F3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99D-B4D0-4156-8DD6-223CD4619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59FC-3BC0-49A6-99C2-1C0627015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ED32-817E-490F-986E-45D0A91B6A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75D-6974-464A-A2CB-ECB79F3426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9287-C8DB-4B98-80F4-0546FCBF0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57520" y="1449360"/>
            <a:ext cx="3828960" cy="135252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136440" y="3381480"/>
            <a:ext cx="88711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39680" y="1679400"/>
            <a:ext cx="8864640" cy="17845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378080" y="3862440"/>
            <a:ext cx="6505560" cy="22003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276720" y="25938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651640" y="2060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5580000" y="2637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172360" y="213372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14392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3348000" y="4437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3348000" y="5084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300720" y="4437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6286680" y="508464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431640" y="677880"/>
            <a:ext cx="83822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52600" y="1081080"/>
            <a:ext cx="8038800" cy="4695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2556000" y="322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156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7020000" y="322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1692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2556000" y="4164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6227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7091280" y="4164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0"/>
          <a:stretch/>
        </p:blipFill>
        <p:spPr>
          <a:xfrm>
            <a:off x="1692360" y="508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1"/>
          <a:stretch/>
        </p:blipFill>
        <p:spPr>
          <a:xfrm>
            <a:off x="2556000" y="5099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2"/>
          <a:stretch/>
        </p:blipFill>
        <p:spPr>
          <a:xfrm>
            <a:off x="6084720" y="5157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3"/>
          <a:stretch/>
        </p:blipFill>
        <p:spPr>
          <a:xfrm>
            <a:off x="6948360" y="51721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352440" y="1971720"/>
            <a:ext cx="8439120" cy="29145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709308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421164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255600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630072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546588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7164360" y="34862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6286680" y="39038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7899480" y="39196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18960" y="142920"/>
            <a:ext cx="8506080" cy="657216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218" descr=""/>
          <p:cNvPicPr/>
          <p:nvPr/>
        </p:nvPicPr>
        <p:blipFill>
          <a:blip r:embed="rId2"/>
          <a:stretch/>
        </p:blipFill>
        <p:spPr>
          <a:xfrm>
            <a:off x="1909800" y="706320"/>
            <a:ext cx="6191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307800" y="501480"/>
            <a:ext cx="8649000" cy="6248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2108160" y="2075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4083120" y="272268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5724360" y="566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6588000" y="5689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3606840" y="625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4470480" y="62802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514440" y="1662120"/>
            <a:ext cx="8115120" cy="353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5364000" y="2306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460044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5392800" y="41068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512640" y="88920"/>
            <a:ext cx="83934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480960" y="1724040"/>
            <a:ext cx="8182080" cy="3409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195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76560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4557600" y="2305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900000" y="4048200"/>
            <a:ext cx="590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4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